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6B7-0E48-428F-BF92-A298068D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47B-1CE9-405A-9F3C-A805A170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26E-DFEF-46E0-AB9D-B0D0C2DE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520-B5C8-4AE1-8052-82C93F53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DDC8-5FE9-45BD-9623-5298171A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0674-7FC3-468C-8DC4-E2F181A3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ACCE-0D84-4FA2-A248-86859627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2CE5-E54B-436A-AA8B-3E1AE6E1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E22D-542A-479E-88B3-DA437644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0C66-5A3B-4718-8D6A-2798D48C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E208-AC47-4AC5-99C7-4552036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F9A-C4C1-4F8F-876C-0049C6AB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9973-01EB-4137-A363-56B71AA9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6F34-BCCD-451E-8E66-6107D664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A28F-6702-4653-A3BD-A2014F32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877A-7576-47FF-BC57-EC2FBC78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09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3B8C-763B-4419-BE7C-377343EE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B06-1B22-49A2-9FC3-E38B153E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175-1822-425D-BB70-C9F70683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C1B-4FBE-4632-9847-6267FB6B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24E-720E-41FD-B02C-92574B38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859-61F0-434B-ACC2-F6DA12D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9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DF0-F0EC-4148-885F-E657D2D3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9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654-5497-4D61-855F-1FAF155D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663F-BB90-4DCC-9248-EB84F6B3E3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5924-BFE1-4216-876C-C8EF3CA0F3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.uvic.ca/history-robinso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bc.co.uk/history/war/normans/launch_gms_battle_hastings.shtml" TargetMode="External"/><Relationship Id="rId2" Type="http://schemas.openxmlformats.org/officeDocument/2006/relationships/hyperlink" Target="http://www.bbc.co.uk/history/british/normans/launch_gms_battle_hastings.s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skeletons.org/" TargetMode="External"/><Relationship Id="rId2" Type="http://schemas.openxmlformats.org/officeDocument/2006/relationships/hyperlink" Target="http://www.eskeletons.org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ybermission.com/index_flash.cf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aamath.com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ed.ucla.edu/wilkes/inex.ht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r.chem.cmu.edu/irproject" TargetMode="External"/><Relationship Id="rId2" Type="http://schemas.openxmlformats.org/officeDocument/2006/relationships/hyperlink" Target="http://www.chemcollective.org/vlab/vlab.php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tarfall.com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tarfall.com/" TargetMode="External"/><Relationship Id="rId2" Type="http://schemas.openxmlformats.org/officeDocument/2006/relationships/hyperlink" Target="http://www.powertyping.com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roguts.com/flash_content/index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bc.co.uk/arts/multimedia/dickens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istance-simulations.com/cwol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ftb.org/dnaftb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ngo.com/math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rticle19.com/shockwave/oz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adsworth.com/psychology_d/templates/student_resources/0534633609_sniffy2/sniffy/download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gitalenterprise.org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n.ucc.nau.edu/~tas3/wtc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jan.ucc.nau.edu/~tas3/wtc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assification Exercise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Who Killed William Robinson?</a:t>
            </a: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5" name="Text Box 3">
            <a:hlinkClick r:id="rId1"/>
          </p:cNvPr>
          <p:cNvSpPr/>
          <p:nvPr/>
        </p:nvSpPr>
        <p:spPr>
          <a:xfrm>
            <a:off x="2333880" y="121932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eb.uvic.ca/history-robinson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he Battle of Hasting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9" name="Text Box 3">
            <a:hlinkClick r:id="rId1"/>
          </p:cNvPr>
          <p:cNvSpPr/>
          <p:nvPr/>
        </p:nvSpPr>
        <p:spPr>
          <a:xfrm>
            <a:off x="584280" y="121932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bbc.co.uk/history/british/normans/launch_gms_battle_hastings.shtml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he eSkeletons Projec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3" name="Text Box 3">
            <a:hlinkClick r:id="rId1"/>
          </p:cNvPr>
          <p:cNvSpPr/>
          <p:nvPr/>
        </p:nvSpPr>
        <p:spPr>
          <a:xfrm>
            <a:off x="2988720" y="121932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skeletons.org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ECybernission 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Text Box 3">
            <a:hlinkClick r:id="rId1"/>
          </p:cNvPr>
          <p:cNvSpPr/>
          <p:nvPr/>
        </p:nvSpPr>
        <p:spPr>
          <a:xfrm>
            <a:off x="1612080" y="1219320"/>
            <a:ext cx="59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ecybermission.com/index_flash.cf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AAA Math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3" name="Text Box 3">
            <a:hlinkClick r:id="rId1"/>
          </p:cNvPr>
          <p:cNvSpPr/>
          <p:nvPr/>
        </p:nvSpPr>
        <p:spPr>
          <a:xfrm>
            <a:off x="3102480" y="1219320"/>
            <a:ext cx="29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http://www.aaamath.com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he  Auscultation Assistan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7" name="Text Box 3">
            <a:hlinkClick r:id="rId1"/>
          </p:cNvPr>
          <p:cNvSpPr/>
          <p:nvPr/>
        </p:nvSpPr>
        <p:spPr>
          <a:xfrm>
            <a:off x="2009160" y="1219320"/>
            <a:ext cx="51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med.ucla.edu/wilkes/inex.ht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The Virtual Chemistry Laboratory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1" name="Text Box 3">
            <a:hlinkClick r:id="rId1"/>
          </p:cNvPr>
          <p:cNvSpPr/>
          <p:nvPr/>
        </p:nvSpPr>
        <p:spPr>
          <a:xfrm>
            <a:off x="2268720" y="1244520"/>
            <a:ext cx="46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hemcollective.org/vlab/vlab.php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STARFALL READING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Text Box 3">
            <a:hlinkClick r:id="rId1"/>
          </p:cNvPr>
          <p:cNvSpPr/>
          <p:nvPr/>
        </p:nvSpPr>
        <p:spPr>
          <a:xfrm>
            <a:off x="3082680" y="121932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starfall.co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PowerTyping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9" name="Text Box 3">
            <a:hlinkClick r:id="rId1"/>
          </p:cNvPr>
          <p:cNvSpPr/>
          <p:nvPr/>
        </p:nvSpPr>
        <p:spPr>
          <a:xfrm>
            <a:off x="2855520" y="1219320"/>
            <a:ext cx="343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wertyping.com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Frog Gut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3" name="Text Box 3">
            <a:hlinkClick r:id="rId1"/>
          </p:cNvPr>
          <p:cNvSpPr/>
          <p:nvPr/>
        </p:nvSpPr>
        <p:spPr>
          <a:xfrm>
            <a:off x="3061440" y="1219320"/>
            <a:ext cx="30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froguts.co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eff1"/>
                </a:solidFill>
                <a:latin typeface="Arial Black"/>
              </a:rPr>
              <a:t>Classify The Following Educational Software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rill and Practic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nstructional Ga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Survive Dickens’ London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7" name="Text Box 3">
            <a:hlinkClick r:id="rId1"/>
          </p:cNvPr>
          <p:cNvSpPr/>
          <p:nvPr/>
        </p:nvSpPr>
        <p:spPr>
          <a:xfrm>
            <a:off x="1684440" y="1219320"/>
            <a:ext cx="57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bbc.co.uk/arts/multimedia/dickens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Civil War Onlin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61" name="Text Box 3">
            <a:hlinkClick r:id="rId1"/>
          </p:cNvPr>
          <p:cNvSpPr/>
          <p:nvPr/>
        </p:nvSpPr>
        <p:spPr>
          <a:xfrm>
            <a:off x="1612440" y="1219320"/>
            <a:ext cx="59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distance-simulations.com/cwol.htm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Cells Aliv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934000" y="121932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cellsalive.co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Crisis at Fort Sumter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946600" y="1219320"/>
            <a:ext cx="39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tulane.edu/~sumter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Music Acoustics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20840" y="121932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phys.unsw.edu.au/music/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Authentic Assessment Toolbox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84880" y="1219320"/>
            <a:ext cx="73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jonathan.mueller.faculty.noctrl.edu/toolbox/index.ht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een Biz 3000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819880" y="114300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http://www.achieve3000.com/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Assessing Blood Pressur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629800" y="121932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132.241.10.14/bp/bp.htm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Study Island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622240" y="1219320"/>
            <a:ext cx="36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studyisland.com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hat Quiz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619360" y="121932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thatquiz.org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635200" y="324468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http://www.phys.unsw.edu.au/music/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DNA From the Beginning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7" name="Text Box 3">
            <a:hlinkClick r:id="rId1"/>
          </p:cNvPr>
          <p:cNvSpPr/>
          <p:nvPr/>
        </p:nvSpPr>
        <p:spPr>
          <a:xfrm>
            <a:off x="2707920" y="121932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dnaftb.org/dnaftb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Math Baseball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1" name="Text Box 3">
            <a:hlinkClick r:id="rId1"/>
          </p:cNvPr>
          <p:cNvSpPr/>
          <p:nvPr/>
        </p:nvSpPr>
        <p:spPr>
          <a:xfrm>
            <a:off x="2687040" y="12193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prongo.com/math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The Ohm Zon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Text Box 3">
            <a:hlinkClick r:id="rId1"/>
          </p:cNvPr>
          <p:cNvSpPr/>
          <p:nvPr/>
        </p:nvSpPr>
        <p:spPr>
          <a:xfrm>
            <a:off x="1823040" y="121932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article19.com/shockwave/oz.ht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Sniffy, The Virtual R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Text Box 3">
            <a:hlinkClick r:id="rId1"/>
          </p:cNvPr>
          <p:cNvSpPr/>
          <p:nvPr/>
        </p:nvSpPr>
        <p:spPr>
          <a:xfrm>
            <a:off x="125280" y="1295280"/>
            <a:ext cx="90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http://www.wadsworth.com/psychology_d/templates/student_resources/0534633609_sniffy2/sniffy/download.htm</a:t>
            </a: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Managing the Digital Enterprise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3" name="Text Box 3">
            <a:hlinkClick r:id="rId1"/>
          </p:cNvPr>
          <p:cNvSpPr/>
          <p:nvPr/>
        </p:nvSpPr>
        <p:spPr>
          <a:xfrm>
            <a:off x="2531160" y="12193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www.digitalenterprise.org/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eff1"/>
                </a:solidFill>
                <a:latin typeface="Arial Black"/>
              </a:rPr>
              <a:t>The Fugues of the Well-Tempered Clavier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Text Box 3">
            <a:hlinkClick r:id="rId1"/>
          </p:cNvPr>
          <p:cNvSpPr/>
          <p:nvPr/>
        </p:nvSpPr>
        <p:spPr>
          <a:xfrm>
            <a:off x="2251440" y="1219320"/>
            <a:ext cx="46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jan.ucc.nau.edu/~tas3/wtc.htm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eff1"/>
                </a:solidFill>
                <a:latin typeface="Arial Black"/>
              </a:rPr>
              <a:t>The Fugues of the Well-Tempered Clavier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1" name="Text Box 3">
            <a:hlinkClick r:id="rId1"/>
          </p:cNvPr>
          <p:cNvSpPr/>
          <p:nvPr/>
        </p:nvSpPr>
        <p:spPr>
          <a:xfrm>
            <a:off x="2251440" y="1219320"/>
            <a:ext cx="46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ttp://jan.ucc.nau.edu/~tas3/wtc.htm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124280" y="19051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lassify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86520" y="27432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xplanation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22:51:18Z</dcterms:created>
  <dc:creator>Long</dc:creator>
  <dc:description/>
  <dc:language>en-US</dc:language>
  <cp:lastModifiedBy>Long</cp:lastModifiedBy>
  <dcterms:modified xsi:type="dcterms:W3CDTF">2011-02-06T17:49:36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